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403-5BA8-4BEF-B7A0-4BDBC7D7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256-A52A-4DED-A01F-421FE77F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03C-87A7-40FA-BBBB-0562CDEB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CD2-AA12-4D51-BC09-E9E140E6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9306-40B2-4063-8A77-2EEBB6E1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42F8-2BA7-49F9-A127-487078C7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8CE0-C186-4519-B991-21F33CB0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D2F7-6FD1-4C15-96C5-8C9337F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0738-7F9D-4EF4-BB4F-FC44B4B8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80640" y="0"/>
            <a:ext cx="7705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C189-612F-46C1-9742-2D19253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341-2727-4975-8349-BD5A9E2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588-A501-4FD8-8BE7-464DBD38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18C4-B207-4ED6-9B68-13E0C13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3CAA-F3A1-4D04-B7AA-6FFFEA0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8A0C-9C83-430B-BF4D-71770C8D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667-107E-4047-AB90-C5959608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86AA-3053-4ADE-9DA9-C139BDD5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EA0E-7261-42A6-A835-C4DDF884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4CE9-5B9C-4EFF-A97B-56F12054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807C-403C-4D10-B4FA-87782C21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348C-93B2-44FF-A3FE-C86C68B4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E6DC-382A-4DBF-82E3-B303C9A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8C2-AED1-4291-AF4A-D3CD1ACA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80640" y="0"/>
            <a:ext cx="7705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5C29-D24C-449E-A2B0-F09EB655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85A4-B87A-4DA4-A50B-0AAAEF07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226F-AA6D-465B-809C-B8C99B4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06A0-15F2-4179-BD96-2301EE87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CF639-A842-4BCB-84E8-E863CF5E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F6BF-8C5E-4959-9BF6-CE43C390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F878-55AE-4389-A1CD-060BB530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66C-98C9-40CE-A19D-60A6FE68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D38-9F01-4E14-9EA9-BD7E725C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80640" y="0"/>
            <a:ext cx="7705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27F-0EDF-42DC-BC72-9EFC2819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F9A-787B-414B-96AE-2798F35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511-C614-4147-9ABD-322657B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98A-89E8-4948-9C89-9801E8B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ate Placeholder 3"/>
          <p:cNvSpPr/>
          <p:nvPr/>
        </p:nvSpPr>
        <p:spPr>
          <a:xfrm>
            <a:off x="434520" y="547488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/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oter Placeholder 4"/>
          <p:cNvSpPr/>
          <p:nvPr/>
        </p:nvSpPr>
        <p:spPr>
          <a:xfrm>
            <a:off x="3101400" y="5474880"/>
            <a:ext cx="2895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Slide Number Placeholder 5"/>
          <p:cNvSpPr/>
          <p:nvPr/>
        </p:nvSpPr>
        <p:spPr>
          <a:xfrm>
            <a:off x="6530400" y="633420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fld id="{62A6A3CA-30CA-4898-AEB0-2E9859B24D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Nasa-logo.gif"/>
          <p:cNvPicPr/>
          <p:nvPr/>
        </p:nvPicPr>
        <p:blipFill>
          <a:blip r:embed="rId2"/>
          <a:stretch/>
        </p:blipFill>
        <p:spPr>
          <a:xfrm>
            <a:off x="205920" y="70560"/>
            <a:ext cx="774360" cy="663120"/>
          </a:xfrm>
          <a:prstGeom prst="rect">
            <a:avLst/>
          </a:prstGeom>
          <a:ln w="0">
            <a:noFill/>
          </a:ln>
        </p:spPr>
      </p:pic>
      <p:sp>
        <p:nvSpPr>
          <p:cNvPr id="4" name="TextBox 7"/>
          <p:cNvSpPr/>
          <p:nvPr/>
        </p:nvSpPr>
        <p:spPr>
          <a:xfrm>
            <a:off x="0" y="4232520"/>
            <a:ext cx="9143640" cy="26463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7bffb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1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20"/>
          <p:cNvSpPr/>
          <p:nvPr/>
        </p:nvSpPr>
        <p:spPr>
          <a:xfrm>
            <a:off x="7390440" y="6553080"/>
            <a:ext cx="1819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oddard Earth Sc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 Information Services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6226200"/>
            <a:ext cx="9143640" cy="38052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3526560"/>
            <a:ext cx="7314840" cy="3276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" name="TextBox 19"/>
          <p:cNvSpPr/>
          <p:nvPr/>
        </p:nvSpPr>
        <p:spPr>
          <a:xfrm>
            <a:off x="8183160" y="6394680"/>
            <a:ext cx="96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Bodoni MT Black"/>
              </a:rPr>
              <a:t>GES –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lowchart: Document 37"/>
          <p:cNvSpPr/>
          <p:nvPr/>
        </p:nvSpPr>
        <p:spPr>
          <a:xfrm>
            <a:off x="6324480" y="4212360"/>
            <a:ext cx="2819160" cy="2590560"/>
          </a:xfrm>
          <a:prstGeom prst="flowChartDocumen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824040"/>
            <a:ext cx="9143640" cy="4536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0A92A5-55C1-414B-8AD1-768E9341046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434520" y="547488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/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01400" y="5474880"/>
            <a:ext cx="2895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30400" y="633420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fld id="{B19CDA13-478E-4FA4-852D-73DE229C74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Nasa-logo.gif"/>
          <p:cNvPicPr/>
          <p:nvPr/>
        </p:nvPicPr>
        <p:blipFill>
          <a:blip r:embed="rId2"/>
          <a:stretch/>
        </p:blipFill>
        <p:spPr>
          <a:xfrm>
            <a:off x="205920" y="70560"/>
            <a:ext cx="774360" cy="663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0" y="4232520"/>
            <a:ext cx="9143640" cy="26463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7bffb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1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7390440" y="6553080"/>
            <a:ext cx="1819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oddard Earth Sc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 Information Services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6226200"/>
            <a:ext cx="9143640" cy="38052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3526560"/>
            <a:ext cx="7314840" cy="3276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8183160" y="6394680"/>
            <a:ext cx="96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Bodoni MT Black"/>
              </a:rPr>
              <a:t>GES –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Document 37"/>
          <p:cNvSpPr/>
          <p:nvPr/>
        </p:nvSpPr>
        <p:spPr>
          <a:xfrm>
            <a:off x="6324480" y="4212360"/>
            <a:ext cx="2819160" cy="2590560"/>
          </a:xfrm>
          <a:prstGeom prst="flowChartDocumen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0" y="824040"/>
            <a:ext cx="9143640" cy="4536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AB6199-D4DC-4718-B456-A8FA104BF7F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34520" y="547488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/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01400" y="5474880"/>
            <a:ext cx="2895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30400" y="633420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fld id="{3252BFC4-A483-4A50-8C4A-E013039467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Nasa-logo.gif"/>
          <p:cNvPicPr/>
          <p:nvPr/>
        </p:nvPicPr>
        <p:blipFill>
          <a:blip r:embed="rId2"/>
          <a:stretch/>
        </p:blipFill>
        <p:spPr>
          <a:xfrm>
            <a:off x="205920" y="70560"/>
            <a:ext cx="774360" cy="6631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0" y="4232520"/>
            <a:ext cx="9143640" cy="26463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7bffb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1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7390440" y="6553080"/>
            <a:ext cx="1819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oddard Earth Sc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 Information Services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0" y="6226200"/>
            <a:ext cx="9143640" cy="38052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3526560"/>
            <a:ext cx="7314840" cy="3276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8183160" y="6394680"/>
            <a:ext cx="96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Bodoni MT Black"/>
              </a:rPr>
              <a:t>GES –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owchart: Document 37"/>
          <p:cNvSpPr/>
          <p:nvPr/>
        </p:nvSpPr>
        <p:spPr>
          <a:xfrm>
            <a:off x="6324480" y="4212360"/>
            <a:ext cx="2819160" cy="2590560"/>
          </a:xfrm>
          <a:prstGeom prst="flowChartDocumen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824040"/>
            <a:ext cx="9143640" cy="45360"/>
          </a:xfrm>
          <a:prstGeom prst="rect">
            <a:avLst/>
          </a:prstGeom>
          <a:gradFill rotWithShape="0">
            <a:gsLst>
              <a:gs pos="0">
                <a:srgbClr val="0087e6"/>
              </a:gs>
              <a:gs pos="100000">
                <a:srgbClr val="005cb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D8F1CC-A6C0-454B-9C2B-5F88D56CF87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iki.earthdata.nasa.gov/display/CMR/Relevancy+Ranking+of+Data+Collections" TargetMode="External"/><Relationship Id="rId2" Type="http://schemas.openxmlformats.org/officeDocument/2006/relationships/hyperlink" Target="https://wiki.earthdata.nasa.gov/display/CMR/Relevancy+Ranking+of+Data+Collections" TargetMode="External"/><Relationship Id="rId3" Type="http://schemas.openxmlformats.org/officeDocument/2006/relationships/hyperlink" Target="https://wiki.earthdata.nasa.gov/display/CMR/Relevancy+Ranking+of+Data+Collections" TargetMode="External"/><Relationship Id="rId4" Type="http://schemas.openxmlformats.org/officeDocument/2006/relationships/hyperlink" Target="https://wiki.earthdata.nasa.gov/display/CMR/Relevancy+Ranking+of+Data+Collections" TargetMode="External"/><Relationship Id="rId5" Type="http://schemas.openxmlformats.org/officeDocument/2006/relationships/hyperlink" Target="https://wiki.earthdata.nasa.gov/display/CMR/Relevancy+Ranking+of+Data+Collections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5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ixing Dataset Sear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852800"/>
            <a:ext cx="64004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8b8b8b"/>
                </a:solidFill>
                <a:latin typeface="Calibri"/>
              </a:rPr>
              <a:t>Chris Ly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8b8b8b"/>
                </a:solidFill>
                <a:latin typeface="Calibri"/>
              </a:rPr>
              <a:t>GES DI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piphany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684000" y="1013400"/>
            <a:ext cx="818568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e Slipped 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 because users would rather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EARCH WI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reetext keywords, that doesn’t mean we have to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FIND B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reetext metho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5724.jpg"/>
          <p:cNvPicPr/>
          <p:nvPr/>
        </p:nvPicPr>
        <p:blipFill>
          <a:blip r:embed="rId1"/>
          <a:stretch/>
        </p:blipFill>
        <p:spPr>
          <a:xfrm>
            <a:off x="3688200" y="5210640"/>
            <a:ext cx="12697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levancy Heuris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3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ttempt to return datasets in the most relevant order, giv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words provided by 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ly user intent, inferred 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irical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.B.: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 heuristic works for every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trying to make as many users happ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Content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55440" y="1452960"/>
            <a:ext cx="902484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tch in measurement/parameter/GCMD specific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tch in any othe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zone as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zone in “Ozone Monitoring Instru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Content “Noun”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1871640" y="1452960"/>
            <a:ext cx="539172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uns” in a Measuremen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ifiers in a Measuremen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zone” in “Total Column Oz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tal” in “Total Column Oz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Version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2904840" y="1257840"/>
            <a:ext cx="332496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e Recent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 Recent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LS Whatever V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s more relevan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LS Whatever V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e Range Coverage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020600" y="1452960"/>
            <a:ext cx="709380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e Range Coverage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 of Search Date Range covered by the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: want Oct 2007 to Oct 2014 (8 y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: got 2004 – 2012 (2007-2012 = 6 y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= 6/8 =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se of Use Heur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2240" y="1208880"/>
            <a:ext cx="714420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ing Level as a Prox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4 – model, ergo gridded + usually gap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3 – nicely gri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2 – processed to physical variables but tricky to map and interpret quality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1 – Do-it-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0 – Science teams only (or mos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’s New” Heuristic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2809800" y="1452960"/>
            <a:ext cx="351576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wer data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e usually better t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der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2013840" y="5214240"/>
            <a:ext cx="4978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Resonates with people’s Recency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rics-based Heuris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4760" y="13071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popularity over last N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itations over last N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ive popularity…not so m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s Who Bought This Item Also Bough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ther Items Do Customers Buy After Viewing This Item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.B.:  You have to get to and select a relevant item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r Type and Intent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56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search words (“Rain” + “Landslides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s from Portals or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* portals/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portals/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Jargon or Technical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OD, SST, L2, OMI, SNPP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783000" y="6141960"/>
            <a:ext cx="5823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Applications like “Landslide Prediction”, not like “MS Off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12200" y="932400"/>
            <a:ext cx="8404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 it to weight or otherwise modify previous heu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 Experimen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Content Placeholder 6"/>
          <p:cNvGraphicFramePr/>
          <p:nvPr/>
        </p:nvGraphicFramePr>
        <p:xfrm>
          <a:off x="1108800" y="2524680"/>
          <a:ext cx="7008840" cy="1483200"/>
        </p:xfrm>
        <a:graphic>
          <a:graphicData uri="http://schemas.openxmlformats.org/drawingml/2006/table">
            <a:tbl>
              <a:tblPr/>
              <a:tblGrid>
                <a:gridCol w="1817280"/>
                <a:gridCol w="934560"/>
                <a:gridCol w="1134720"/>
                <a:gridCol w="928440"/>
                <a:gridCol w="1073880"/>
                <a:gridCol w="11196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alse 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alse N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C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i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7"/>
          <p:cNvSpPr/>
          <p:nvPr/>
        </p:nvSpPr>
        <p:spPr>
          <a:xfrm>
            <a:off x="1692000" y="1062360"/>
            <a:ext cx="61322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 for “Ozone” data distributed by GES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vant = dataset-actually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921680" y="4622760"/>
            <a:ext cx="426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cision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levant ∩ Retr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ieved            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2316960" y="5411520"/>
            <a:ext cx="3872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all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levant ∩ Retr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vant            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 We Ne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99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rank CMR dataset results according to heu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client-selectable heuristics and sc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experiment with ranking schemes against CMR 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re researchers to develop ranking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forum for developing additional methods for ranking and modeling user i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cus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35040" y="2067840"/>
            <a:ext cx="81576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White Paper,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iki.earthdata.nasa.gov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display/CMR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Relevancy+Ranking+of+Data+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p 10: GCM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449280" y="965160"/>
            <a:ext cx="75848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Hydroperoxy (HO2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Hydroxyl (OH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Nitric Acid (HNO3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Water Vapor (H2O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Hydrogen Chloride (HCl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Nitrous Oxide (N2O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S/Aura Level 2 Ozone (O3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Chlorine Monoxide (ClO) Mixing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MLS/Aura Level 2 Carbon Monoxide (CO) Mixing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p 10: ECH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14480" y="946080"/>
            <a:ext cx="90291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Formaldehyde (HCHO) Total Column Global 0.25deg Lat/L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qua AIRS Level 3 Daily Standard Physical Retrieval (AIRS-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OMI/Aura Zoom-in Ground Pixel Corners 1-Orbit L2 Swath 13x12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MLS/Aura Near-Real-Time L2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OMI/Aura NO2 Cloud-Screened Total and Tropospheric Column Daily L3 Global 0.25deg Lat/L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ARS Improved Stratospheric and Mesospheric Sounder (ISAMS) Level 3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ARS Cryogenic Limb Array Etalon Spectrometer (CLAES) Level 3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2/NOAA-16 Ozone (O3) Nadir Profile and Total Column Daily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TOMS/Earth Probe UV Reflectivity Monthly L3 Global 1x1.25 deg Lat/L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A DAILY GRIDS from NOAA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0640" y="-36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p 10: Mirad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5360" y="1006920"/>
            <a:ext cx="900828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Ozone (O3) Total Column 1-Orbit L2 Swath 13x2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DOAS Total Column Ozone Zoomed 1-Orbit L2 Swath 13x12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Ozone (O3) Total Column Daily L2 Global 0.25 deg Lat/Lon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/Nimbus-7 Ozone Profile, Ozone Total Column 1-Orbit L2 200x200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2/NOAA-09 Ozone Profile, Ozone Total Column 1-Orbit L2 200x200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2/NOAA-11 Ozone Profile, Ozone Total Column 1-Orbit L2 200x200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UV2/NOAA-16 Ozone Profile, Ozone Total Column 1-Orbit L2 200x200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Ozone (O3) DOAS Total Column Daily L2 Global 0.25 deg Lat/Lon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/Aura Ozone (O3) DOAS Total Column 1-Orbit L2 Swath 13x24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ZCARDS Source Data for Ozone Monthly Zonal Means on a Geodetic Latitude and Pressure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2170440" y="4512960"/>
            <a:ext cx="4976280" cy="191844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  <a:effectLst>
            <a:glow rad="101520">
              <a:srgbClr val="c4bd97">
                <a:alpha val="75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, but still not that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2G &gt;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-EOS &gt; EOS (#4-#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ty product (Zoomed) &gt;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piphany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94600" y="2478960"/>
            <a:ext cx="7621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adbcd8"/>
                </a:solidFill>
                <a:latin typeface="Calibri"/>
              </a:rPr>
              <a:t>So </a:t>
            </a:r>
            <a:r>
              <a:rPr b="1" lang="en-US" sz="5400" spc="-1" strike="noStrike" u="sng">
                <a:solidFill>
                  <a:srgbClr val="adbcd8"/>
                </a:solidFill>
                <a:uFillTx/>
                <a:latin typeface="Calibri"/>
              </a:rPr>
              <a:t>That’s</a:t>
            </a:r>
            <a:r>
              <a:rPr b="1" lang="en-US" sz="5400" spc="-1" strike="noStrike">
                <a:solidFill>
                  <a:srgbClr val="adbcd8"/>
                </a:solidFill>
                <a:latin typeface="Calibri"/>
              </a:rPr>
              <a:t> Why Users Hate on 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levancy Ran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141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mplementing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goo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relevancy ranking may be the single most important thing we could do to improve our sear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80640" y="0"/>
            <a:ext cx="7705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Relev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3920" y="1099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what made Google fam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ically, Google’s PageRank does not work well for dataset “document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OH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ACs and EOSDIS have been helping users select data for &gt; 2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know by now what users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5</TotalTime>
  <Application>LibreOffice/7.4.7.2$Linux_X86_64 LibreOffice_project/40$Build-2</Application>
  <AppVersion>15.0000</AppVersion>
  <Words>1134</Words>
  <Paragraphs>170</Paragraphs>
  <Company>NASA / GSF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1:35:02Z</dcterms:created>
  <dc:creator>Christopher Lynnes</dc:creator>
  <dc:description/>
  <dc:language>en-US</dc:language>
  <cp:lastModifiedBy>Christopher Lynnes</cp:lastModifiedBy>
  <dcterms:modified xsi:type="dcterms:W3CDTF">2014-11-14T22:45:21Z</dcterms:modified>
  <cp:revision>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1</vt:r8>
  </property>
</Properties>
</file>